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475-76CA-4036-9A06-2E3F8C30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EA5-83F7-419E-923D-66CC3B91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EA7-5AB8-4E19-8CDE-857BB8C3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9B8-B040-4A62-94F1-611F10AD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8904-AE5A-40A8-AC3F-865603F1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3C86-4EAC-445F-A2FA-7AE36EC1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43B8-3B9F-4D20-A4C5-6B7163A7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614F-5772-4013-B63B-E5F77DB1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F739-3ED9-448F-8DDE-5C81F945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C32C-950A-4AA4-B2A2-D1489E29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4E50-631C-4DCA-ADF8-C942D6F7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F66-C8A3-4131-839A-2B44DD1D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C708-D4E8-48D7-903D-62147B5A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782D-7D3A-4AF1-92D3-976D9A69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F146-54DA-4FE2-BC1B-815AA79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A74B-8D7A-414B-9FD8-A9CEF2C6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AB3E-13F9-4A7A-9B0D-A6CE02AD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37CA-2F91-49B8-AF1A-E0FE5B46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F901-7807-41CD-AEEC-B0501312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3A68-0DF0-453A-9F70-D3AFA3D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5222-FAFE-4ED8-81DF-E48F5813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1B8FB-AD8D-4A27-8D60-7F018D22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271-89D4-4767-8B67-CB343741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3385-081A-4E1C-9CF8-6EFDC281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CA32-3A93-40A7-AB62-8BFC190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7C8D-6214-4D48-8FE4-3981EAAC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A378-8C66-40F1-8C28-AF89650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7993-6A6E-42D1-BD3A-072946B1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AC3A-62B1-4CEA-8BE3-0D087DDD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8F59-6C6A-4304-8D13-DB4CC587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CA0-149E-45AB-A25E-99E8FB0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1DF-FA3A-4885-AB57-C198F7AA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072-BA32-4C7F-863D-F18E6AF8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5B6-2915-48E9-81F7-DE2C737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CF0-7641-49D7-9822-BCAC5C2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3F6-3061-4A6B-8E74-8C105AB2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868686"/>
                  </a:gs>
                  <a:gs pos="50000">
                    <a:srgbClr val="ffffff"/>
                  </a:gs>
                  <a:gs pos="100000">
                    <a:srgbClr val="8686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868686"/>
                  </a:gs>
                  <a:gs pos="50000">
                    <a:srgbClr val="ffffff"/>
                  </a:gs>
                  <a:gs pos="100000">
                    <a:srgbClr val="8686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868686"/>
                  </a:gs>
                  <a:gs pos="50000">
                    <a:srgbClr val="ffffff"/>
                  </a:gs>
                  <a:gs pos="100000">
                    <a:srgbClr val="8686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868686"/>
                  </a:gs>
                  <a:gs pos="50000">
                    <a:srgbClr val="ffffff"/>
                  </a:gs>
                  <a:gs pos="100000">
                    <a:srgbClr val="8686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8686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686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8686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8686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fld id="{E6F8550B-552E-42D6-AC3F-58E15D6A4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758A-A616-4CCC-83CD-7245C14FF2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30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2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33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868686"/>
                  </a:gs>
                  <a:gs pos="50000">
                    <a:srgbClr val="ffffff"/>
                  </a:gs>
                  <a:gs pos="100000">
                    <a:srgbClr val="8686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868686"/>
                  </a:gs>
                  <a:gs pos="50000">
                    <a:srgbClr val="ffffff"/>
                  </a:gs>
                  <a:gs pos="100000">
                    <a:srgbClr val="8686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36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868686"/>
                  </a:gs>
                  <a:gs pos="50000">
                    <a:srgbClr val="ffffff"/>
                  </a:gs>
                  <a:gs pos="100000">
                    <a:srgbClr val="8686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868686"/>
                  </a:gs>
                  <a:gs pos="50000">
                    <a:srgbClr val="ffffff"/>
                  </a:gs>
                  <a:gs pos="100000">
                    <a:srgbClr val="8686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8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139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140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6868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8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8686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686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8686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8686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0E5A1335-4189-47CB-8383-7EE31A31EE9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46AB-60FC-4A7A-A0BC-EED0D091CA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2 de marzo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res?¿Como e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5746615B-8570-4AAE-B7C1-B55B22DB4D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5" descr="en00508_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253B8827-62E5-42EC-B606-A14083B707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6" descr="bs01001_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8B58D4E7-485E-41DE-9E17-D962E61E10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6868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1833C3A8-5145-4F00-B5EB-91EC931059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á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osotr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5" descr="an00106_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02EABDCA-BDFF-4BD5-8122-85340919C1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bre ahor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" name="Picture 5" descr="pe03704_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19422BA0-6ACE-4D7C-B1CE-889C8943D9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juegando bien al fútb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5" descr="j0079256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D54D-85D9-4EB9-931D-026B26BEAC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5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23F2098F-402A-451A-968E-DBF162026A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5" descr="bs01923_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A0AA8455-CB79-45BA-9ED4-E4EE6233F3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4131BF3A-368B-40CE-AC4B-ACF918D9B2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5" descr="bd05558_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F04D304D-BB8C-45F8-853D-C5FAAE3E0C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6868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0422A9E4-3088-45A5-8FC9-EF1B506283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6" descr="BD05680_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25E14C2B-C954-4323-9D3F-B82E47AF6E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merican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5" descr="PE01460_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C4C71AE2-A1C4-4310-97D9-A4BD54A117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5" descr="bd06630_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fld id="{2D0259BE-AD8E-4037-B5A8-2D3CE23A4F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17 de febre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5" descr="bs00965_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dcterms:modified xsi:type="dcterms:W3CDTF">2015-03-13T12:51:20Z</dcterms:modified>
  <cp:revision>95</cp:revision>
  <dc:subject/>
  <dc:title>Ser &amp; Estar</dc:title>
</cp:coreProperties>
</file>